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BCA-9F3B-43AE-B605-F9CC315D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1B0-95C7-47EF-BD55-61E740A1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1A9-1276-47C2-91A4-16BB2660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1BF-99B7-452A-AB82-4BBA722B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9DA-4142-4DFF-A8DC-33E8629E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2DF-D114-4B19-8E38-5D76603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2EA8-00CB-4B0A-B8AE-2943FE5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A06-EE17-448B-9025-825E3849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292A-303A-4E8C-882D-71467283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365-4849-4246-9B66-AA3BDAA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13D-A316-4D64-85EA-151CA69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2BA-2D5F-4229-92C3-EC923D1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8004-D430-49C7-90F1-5421E62A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B35D-DC2F-465B-B178-4372C28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4DC-F8E5-49FC-A724-5D20517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CD9B-A389-4324-B1AD-3FFD7A07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A79-C8DA-4B0D-B3EA-0464A829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4F6-DC71-409F-963B-E1F498F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CAE-5CC6-4D61-BE94-2C463E11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DB8-B550-4D1B-B6D4-6E779CFE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63D-70CD-40A3-9A76-46601F9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C3B-EC2E-42DE-96C1-E7022AA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045-99B4-4D6E-9979-2D4EABB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BA0-5312-4211-BE06-54218AB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9ED-9451-47EC-AF20-F51508A15E61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17524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EEF-0428-48CC-A2E4-1D17B55782ED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db9c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db9c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search.yahoo.com/" TargetMode="External"/><Relationship Id="rId3" Type="http://schemas.openxmlformats.org/officeDocument/2006/relationships/hyperlink" Target="http://images.search.yahoo.com/" TargetMode="External"/><Relationship Id="rId4" Type="http://schemas.openxmlformats.org/officeDocument/2006/relationships/hyperlink" Target="http://office.microsoft.com/clipart" TargetMode="External"/><Relationship Id="rId5" Type="http://schemas.openxmlformats.org/officeDocument/2006/relationships/hyperlink" Target="http://office.microsoft.com/clipart" TargetMode="External"/><Relationship Id="rId6" Type="http://schemas.openxmlformats.org/officeDocument/2006/relationships/hyperlink" Target="http://office.microsoft.com/clipart" TargetMode="External"/><Relationship Id="rId7" Type="http://schemas.openxmlformats.org/officeDocument/2006/relationships/hyperlink" Target="http://soniacoleman.org/Tutorials/PowerPointTemplates/templates1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hyperlink" Target="http://www.enchantedlearning.com/language/english/label/daysky/answers.shtml" TargetMode="External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1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Tru-Check Direct Reading Rain Gauge"/>
          <p:cNvPicPr/>
          <p:nvPr/>
        </p:nvPicPr>
        <p:blipFill>
          <a:blip r:embed="rId3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" descr="Go to fullsize image"/>
          <p:cNvPicPr/>
          <p:nvPr/>
        </p:nvPicPr>
        <p:blipFill>
          <a:blip r:embed="rId2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" descr="Pilcher  Blizzard Mar 2003"/>
          <p:cNvPicPr/>
          <p:nvPr/>
        </p:nvPicPr>
        <p:blipFill>
          <a:blip r:embed="rId2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3"/>
              </a:rPr>
              <a:t>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5"/>
              </a:rPr>
              <a:t>office.microsoft.com</a:t>
            </a: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6"/>
              </a:rPr>
              <a:t>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69696"/>
                </a:solidFill>
                <a:uFillTx/>
                <a:latin typeface="Arial"/>
                <a:hlinkClick r:id="rId7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Cloud reflection"/>
          <p:cNvPicPr/>
          <p:nvPr/>
        </p:nvPicPr>
        <p:blipFill>
          <a:blip r:embed="rId4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 Denise Carroll</cp:lastModifiedBy>
  <dcterms:modified xsi:type="dcterms:W3CDTF">2005-08-08T05:28:34Z</dcterms:modified>
  <cp:revision>126</cp:revision>
  <dc:subject/>
  <dc:title>Title</dc:title>
</cp:coreProperties>
</file>